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9200" y="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74C852-A695-43FC-9F64-8DD2EA1A2E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07560" y="4722480"/>
            <a:ext cx="4994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3859200" y="9447120"/>
            <a:ext cx="2951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6772FE-67F5-4FA4-BE4B-74D5118BFE0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467-93D4-43A8-B214-040A1FBE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425-C267-4F84-A785-6B8986C7F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569-1CC1-4AE8-865B-36269A97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75D2-2FCA-4A12-99E1-D97E0DA2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929-AFB5-446E-8D9D-A6DB16C1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8B2-E17E-4234-B6DC-39DB7F88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2F73-1E0A-4722-A995-578D2C2F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116-0C2E-4654-89DE-118FE6D9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AC3-5AF0-4F0D-BB58-5CB86D97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7CD1-FC89-4370-AA96-420F4407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564-D574-449D-A2A5-F7DFC265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3DF-82F7-47E6-8E55-2D28C19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B5CE-DB76-4E05-9B1D-16E0C6B0904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eřejná podpora - de minim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, že položky rozpočtu, připadají na různé subjekty nebo se podíl veřejné podpory u jednotlivých subjektů liší, není možné finanční prostředky mezi položkami rozpočtu převádě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šlo by ke změně výše podpory de minimis, která byla subjektům přiděle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ěkujeme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34-51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rozlišo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dotace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kterému byla přiznána dota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d1131c"/>
                </a:solidFill>
                <a:uFillTx/>
                <a:latin typeface="Arial"/>
              </a:rPr>
              <a:t>příjemce veřejné podpory/podpory de minimis</a:t>
            </a:r>
            <a:r>
              <a:rPr b="0" lang="cs-CZ" sz="24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– subjekt, u kterého budou vytvořena pracovní místa s čerpáním mzdových příspěvků, umisťovány osoby na volná pracovní místa s čerpáním mzdových příspěvků, poskytovány služby péče o děti, poradenství a vzdělávání včetně genderových a rodinných auditů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 pro třetí subjekty II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zhledem k tomu, že řada žadatelů v okamžiku vydání právního aktu ještě neví přesně, u kterých subjektů budou výše uvedené činnosti probíhat, a kdo tedy bude příjemcem podpory de minimis, nebude podpora de minimis jednotlivým subjektům před podpisem právního aktu, ale až v průběhu realizace proj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má v právním aktu přidělenu souhrnnou částku určenou na podporu de minimis, která bude v průběhu projektu rozdělena mezi další subjekty. Může se jednat o zaměstnavatele využívající výše uvedené služby (pracovní místa, zaměstnání osob na volných pracovních místech s čerpáním mzdových příspěvků, služby péče o děti či poradenství a vzdělávání včetně genderových </a:t>
            </a:r>
            <a:br>
              <a:rPr sz="2000"/>
            </a:b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rodinných auditů) nebo OSVČ, které se v rámci projektu účastní vzdělávání a poradenstv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Žádost o přidělení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dotace je povinen předložit vyhlašovateli výzvy nejpozději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1 měsíc (u OSVČ 10 pracovních dní)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 poskytnutím některé z výše uvedených služeb následující podkla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11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Žádost o přidělení podpory de minimis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ro jednotlivé subjekty na předepsaném formuláři. Pro každý subjekt je potřeba vyplnit samostatný formulá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vrzení o účetním období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ednotlivých subjektů, kterým má být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 de- minimis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ro každý subjekt je potřeba vyplnit  samostatný sloupe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Formuláře jsou zveřejněny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u výzvy 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kumenty zaslat v listinné i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známení o přidělení podpory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dložené dokumenty vyhlašovatel výzvy posoudí a písemně oznámí příjemci dotace, zda a v jaké výši jim byla jednotlivým subjektům poskytnuta podpora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základě tohoto oznámení se dané subjekty stávají příjemci podpory de minim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ýše podpory je pro daný subjekt zanesena do centrálního registru podpory de minimis provozovaného Ministerstvem zemědělstv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 důvodu centrální evidence není možné žádat o přidělení podpory de minimis průběžně několikrát za dobu realizace projektu pro jeden a tentýž subjekt. Pro každý subjekt je nutné žádat jednoráz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měna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=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c00000"/>
                </a:solidFill>
                <a:latin typeface="Arial"/>
              </a:rPr>
              <a:t>ŽÁDOST O PODSTATNOU ZMĚ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v průběhu realizace projektu nastane změna příjemce podpory de minimis, je povinností příjemce dotace požádat poskytovatele dotace o podstatnou změnu projektu na standardním formuláři žádosti o podstatnou změn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Zároveň je nutné zaslat žádost o přidělení podpory de minimis nově zapojenému subjektu a čestné prohlášení o jeho účetním obdob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rozdělené VP na začátku realizace projektu, nelze v průběhu projektu zapojovat další projekty. Je možné vyměnit jeden subjekt za jiný, v případě, že by původní subjekt chtěl z projektu odstoup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dstoupení příjemce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příjemce de minimis z projektu odstoupí nebo předčasně ukončí účast, zůstane jemu přidělená částka de minimis nedočerpá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V tomto případě je nutné přiznanou výši de minimis snížit v registru de minimis. Příjemce de minimis musí vyhlašovateli výzvy zaslat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ísemnou žádost o snížení přiznané de minimis + čestné prohlášení 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(formu ponecháváme na příjemci), že přiznanou de minimis skutečně nevyčerpá.  Vyhlašovatel výzvy na základě této žádosti zašle oznámení, že u daného subjektu de minimis snižujeme (případně rušíme) a v návaznosti </a:t>
            </a:r>
            <a:br>
              <a:rPr sz="2400"/>
            </a:b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to bude upravena její výši i v registru de mini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Dohoda příjemce dotace s příjemcem podpory de minim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dotace proplácí mzdové příspěvky třetí osobě (zapojenému subjektu), je povinen uzavřít s ním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ohodu o příspěv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ohoda musí obsahovat ustanovení, že zapojený subjekt je povinen vytvořit podmínky k provedení kontroly vztahující se k čerpání mzdových příspěvků, poskytnout oprávněným osobám veškeré doklady vážící se k čerpání mzdových příspěvků a poskytnout součinnost všem osobám oprávněným k provádění kontroly (Řídící orgán, územní finanční orgány, Ministerstvo financí, Nejvyšší kontrolní úřad, Evropská komise a Evropský účetní dvůr, případně další orgány oprávněné k výkonu kontrol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Omezení v provádění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nepodstatných změn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eřejnou podporu nelze navyšovat! 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emožnost převádět finanční prostředky z položek, které nespadají do režimu podpory de minimis (01) na položky označené podporou de minimis (0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Opačná změna – převod finančních prostředků z položek s podporou de minimis (02) do položek, které nespadají do režimu podpory de minimis (01) možná je, ale pouze za předpokladu, že částka podpory nebude vyčerpá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evod mezi položkami, které spadají do podpory de minimis je možná, ale pouze za předpokladu, že nedojde k narušení původního rozdělení podpory mezi zapojené subjekty. Při převodu dojde pouze k přesunu veřejné podpory mezi jednou položkou do druhé, ale nedojde ke změně podílu podpory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Kristyna Novotna</dc:creator>
  <dc:description/>
  <dc:language>en-US</dc:language>
  <cp:lastModifiedBy>Eliška</cp:lastModifiedBy>
  <dcterms:modified xsi:type="dcterms:W3CDTF">2012-12-07T09:34:28Z</dcterms:modified>
  <cp:revision>366</cp:revision>
  <dc:subject/>
  <dc:title>PM část</dc:title>
</cp:coreProperties>
</file>